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5E3-93A4-408D-A088-6801DF8D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9C5-426D-43C9-A2B8-91A904C9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B079-0287-49AB-BCE3-9F1822AB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971-0A6C-4393-A0EE-7FC1B1D8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B77-0068-4724-88ED-06564E67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248-D265-4182-AA28-55A8FB69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17E-2007-4DA7-9A8A-356D175F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E0B-03D4-4A38-9927-B4AC85AB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D05-1276-43E7-B608-DEDC247E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037-62B2-4E0A-9CAA-ECBFCD42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4E7-9F5B-4634-8A7A-3218D36B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34D-923A-4957-A654-621E832E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722C-D88C-4837-A868-467680727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070360" cy="6400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9880" y="290520"/>
            <a:ext cx="4876920" cy="2878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00200" y="1066680"/>
            <a:ext cx="2057400" cy="228600"/>
          </a:xfrm>
          <a:prstGeom prst="rightArrow">
            <a:avLst>
              <a:gd name="adj1" fmla="val 50000"/>
              <a:gd name="adj2" fmla="val 225000"/>
            </a:avLst>
          </a:prstGeom>
          <a:solidFill>
            <a:srgbClr val="ff99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00400" y="3733920"/>
            <a:ext cx="5054760" cy="2931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47920" y="2209680"/>
            <a:ext cx="2514600" cy="1828800"/>
          </a:xfrm>
          <a:prstGeom prst="line">
            <a:avLst/>
          </a:prstGeom>
          <a:ln w="572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000" y="1525680"/>
            <a:ext cx="903600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21040" y="0"/>
            <a:ext cx="53229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1873440" cy="5791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52480" y="1143000"/>
            <a:ext cx="1981440" cy="304920"/>
          </a:xfrm>
          <a:prstGeom prst="rightArrow">
            <a:avLst>
              <a:gd name="adj1" fmla="val 50000"/>
              <a:gd name="adj2" fmla="val 162456"/>
            </a:avLst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6858000" cy="369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1928880" cy="5964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266688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7010280" cy="582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1901880" cy="588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9320" y="2209680"/>
            <a:ext cx="1066680" cy="152640"/>
          </a:xfrm>
          <a:prstGeom prst="rightArrow">
            <a:avLst>
              <a:gd name="adj1" fmla="val 50000"/>
              <a:gd name="adj2" fmla="val 174705"/>
            </a:avLst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6629400" cy="6256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1947960" cy="6019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2209680"/>
            <a:ext cx="1523880" cy="152640"/>
          </a:xfrm>
          <a:prstGeom prst="rightArrow">
            <a:avLst>
              <a:gd name="adj1" fmla="val 50000"/>
              <a:gd name="adj2" fmla="val 249587"/>
            </a:avLst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733920" y="2743200"/>
            <a:ext cx="1981080" cy="1447920"/>
          </a:xfrm>
          <a:prstGeom prst="hexagon">
            <a:avLst>
              <a:gd name="adj" fmla="val 3420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2559240" cy="1617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916360" cy="3963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-1270080" y="15368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28600" y="4495680"/>
            <a:ext cx="4267080" cy="1381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648320" y="5105520"/>
            <a:ext cx="44956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828800" y="152280"/>
            <a:ext cx="3446640" cy="2136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 flipV="1">
            <a:off x="4419720" y="2286000"/>
            <a:ext cx="30456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95120" y="304812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733560" y="3809880"/>
            <a:ext cx="22860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4191120"/>
            <a:ext cx="838080" cy="914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10080" y="2819160"/>
            <a:ext cx="685800" cy="228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0:57:39Z</dcterms:created>
  <dc:creator>chhoteka khiev</dc:creator>
  <dc:description/>
  <dc:language>en-US</dc:language>
  <cp:lastModifiedBy>chhoteka khiev</cp:lastModifiedBy>
  <dcterms:modified xsi:type="dcterms:W3CDTF">2012-03-29T01:52:03Z</dcterms:modified>
  <cp:revision>11</cp:revision>
  <dc:subject/>
  <dc:title>PowerPoint Presentation</dc:title>
</cp:coreProperties>
</file>